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274-A9D7-4E20-A038-671FE4305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3882-56E7-468B-96C1-4AA25019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C2BA-BE47-458A-8C62-B555E6705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516-29DC-4D61-AE99-9D0EC80DA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A2BF-F4A1-44DD-B99D-C575CC7B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F5B2-B485-4752-95D3-C88B034D3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044-8416-4E23-9F9A-2B0E3A5F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BA8-3E37-4496-ABC4-06F282D2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DBF-3D10-442E-A7FC-94CF9394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4DB-9EC3-47EF-B30B-DF9C5AEE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152-373C-463D-B2A8-D38D7FCE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9E8-F7E0-4834-B159-A3EAFA92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BAB-F818-4BAB-9AE9-08C03743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C69-4C00-4F86-987E-E8A17B7C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4BF-71E7-4344-A869-4F9D58F3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A8A-8DDE-40A4-952A-B3C2364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A2B-2EA3-4636-A1FA-7A0CDC59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B2D-CDEA-4157-95E1-9D4B112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BFE6-3440-45B6-B618-8DD0B0ED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9" descr="Picture 1 08-31-43.png"/>
          <p:cNvPicPr/>
          <p:nvPr/>
        </p:nvPicPr>
        <p:blipFill>
          <a:blip r:embed="rId1"/>
          <a:stretch/>
        </p:blipFill>
        <p:spPr>
          <a:xfrm>
            <a:off x="0" y="1447920"/>
            <a:ext cx="5472000" cy="4038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would happen to the simple system if you made the hole in the restriction in pipe 4 larg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52880" y="3733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Water would move from Container B to Container C at a faste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33520" y="5638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water would stay in container B for less time.  Therefore there is a decreas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dence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water in container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29" descr="Picture 1 08-31-43.png"/>
          <p:cNvPicPr/>
          <p:nvPr/>
        </p:nvPicPr>
        <p:blipFill>
          <a:blip r:embed="rId1"/>
          <a:stretch/>
        </p:blipFill>
        <p:spPr>
          <a:xfrm>
            <a:off x="0" y="1143000"/>
            <a:ext cx="5472000" cy="4038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change in the water cycle would be analogous to increasing the size of the hole in Pipe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9528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Increasing the rate of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Gas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9" descr="Picture 1 08-31-43.png"/>
          <p:cNvPicPr/>
          <p:nvPr/>
        </p:nvPicPr>
        <p:blipFill>
          <a:blip r:embed="rId1"/>
          <a:stretch/>
        </p:blipFill>
        <p:spPr>
          <a:xfrm>
            <a:off x="1523880" y="2057400"/>
            <a:ext cx="6858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29" descr="Picture 1 08-31-43.png"/>
          <p:cNvPicPr/>
          <p:nvPr/>
        </p:nvPicPr>
        <p:blipFill>
          <a:blip r:embed="rId1"/>
          <a:stretch/>
        </p:blipFill>
        <p:spPr>
          <a:xfrm>
            <a:off x="2286000" y="2057400"/>
            <a:ext cx="6858000" cy="50608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8"/>
          <p:cNvGrpSpPr/>
          <p:nvPr/>
        </p:nvGrpSpPr>
        <p:grpSpPr>
          <a:xfrm>
            <a:off x="4952520" y="6400080"/>
            <a:ext cx="4191480" cy="456120"/>
            <a:chOff x="4952520" y="6400080"/>
            <a:chExt cx="4191480" cy="456120"/>
          </a:xfrm>
        </p:grpSpPr>
        <p:cxnSp>
          <p:nvCxnSpPr>
            <p:cNvPr id="68" name="Straight Arrow Connector 6"/>
            <p:cNvCxnSpPr/>
            <p:nvPr/>
          </p:nvCxnSpPr>
          <p:spPr>
            <a:xfrm flipH="1" flipV="1">
              <a:off x="4952520" y="640008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69" name="TextBox 10"/>
            <p:cNvSpPr/>
            <p:nvPr/>
          </p:nvSpPr>
          <p:spPr>
            <a:xfrm>
              <a:off x="5790960" y="648792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29" descr="Picture 1 08-31-43.png"/>
          <p:cNvPicPr/>
          <p:nvPr/>
        </p:nvPicPr>
        <p:blipFill>
          <a:blip r:embed="rId1"/>
          <a:stretch/>
        </p:blipFill>
        <p:spPr>
          <a:xfrm>
            <a:off x="2286000" y="838080"/>
            <a:ext cx="4876920" cy="3598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Picture 2.png"/>
          <p:cNvPicPr/>
          <p:nvPr/>
        </p:nvPicPr>
        <p:blipFill>
          <a:blip r:embed="rId1"/>
          <a:stretch/>
        </p:blipFill>
        <p:spPr>
          <a:xfrm>
            <a:off x="1422360" y="2262240"/>
            <a:ext cx="6273720" cy="482436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5"/>
          <p:cNvCxnSpPr/>
          <p:nvPr/>
        </p:nvCxnSpPr>
        <p:spPr>
          <a:xfrm>
            <a:off x="3885120" y="2438280"/>
            <a:ext cx="1080" cy="9151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78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79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69343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iquid Water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7238880" y="4876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ecipitation Reaching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Water Stored in L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312408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7391520" y="4049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Straight Arrow Connector 19"/>
          <p:cNvCxnSpPr/>
          <p:nvPr/>
        </p:nvCxnSpPr>
        <p:spPr>
          <a:xfrm flipH="1">
            <a:off x="6247800" y="4267080"/>
            <a:ext cx="1143720" cy="766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87" name="Straight Arrow Connector 21"/>
          <p:cNvCxnSpPr/>
          <p:nvPr/>
        </p:nvCxnSpPr>
        <p:spPr>
          <a:xfrm>
            <a:off x="1447920" y="4572000"/>
            <a:ext cx="838800" cy="784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88" name="TextBox 26"/>
          <p:cNvSpPr/>
          <p:nvPr/>
        </p:nvSpPr>
        <p:spPr>
          <a:xfrm>
            <a:off x="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0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20:43:51Z</dcterms:created>
  <dc:creator>Julie Libarkin</dc:creator>
  <dc:description/>
  <dc:language>en-US</dc:language>
  <cp:lastModifiedBy>Nicole LaDue</cp:lastModifiedBy>
  <dcterms:modified xsi:type="dcterms:W3CDTF">2011-01-13T19:12:47Z</dcterms:modified>
  <cp:revision>297</cp:revision>
  <dc:subject/>
  <dc:title>PowerPoint Presentation</dc:title>
</cp:coreProperties>
</file>